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014-E19F-42EE-BA21-4004B999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409-FA86-4B58-B62B-61088D9C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EDC-D31F-4584-ADCD-D20EC21D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A51-A0C4-43DB-BBB8-AF077B3A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DAF7-DDD8-4E00-A403-836B7396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199F-818B-4EB5-81E0-34DBDB1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8451-D043-411B-AD47-B8D5720E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69A2-40C4-4B20-8A9A-1D94718F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B99B-931B-446A-BCC2-1D33AAE3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FAA2-013D-4146-8814-B10272C4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D130-CDCC-438F-8248-DBAFFD2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17E-5F6B-4E14-B947-0AD10BDB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9DA5-4D5A-4D93-B926-9866B76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76A7-2E4E-4248-AE58-AE43C49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9445-40D4-4B88-B818-AE2896AA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36CE-E068-4A5D-9FBF-64FBFC1E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E96E-7CC8-45E8-A4C2-3BECA3A6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A752-00AE-4E5C-A4D3-058F52ED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91F1-E932-4309-84C5-A7BC0F7C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572C-8A48-471B-A411-A89C9DBE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2885-0DF6-47BA-A0BD-E33E1A6E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8A7A-BC14-42B9-B4E4-C28A7B5E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D7B-6E74-4C43-A3E7-291740E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BF33-AADA-459F-9138-F9EF93E3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F9A5-07C7-43E5-B3AA-8ABF2A2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1A19-BB00-47C1-97E8-9DD412FB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002E-7486-4242-899F-72BFC28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03AC-70DC-4F0A-A6A5-E66F416C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7634-644F-4469-8D4C-78B55A8A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E4FD-9019-4B1C-8B4F-30CDC86E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F846-D7A0-44DB-84F1-4F7658BA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63561-8AA6-4D8F-8B42-3D44350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A039-3ED1-4D60-AF46-E406C7C6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9F8-FAA2-4C4B-9FA1-EC5CAD31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FB4F-01DA-4319-849B-63781094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2533-E2CA-4315-9886-526721B8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B2E2-0D3F-43B4-A08C-4818F876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CFF0-9BD9-4F76-A050-A9A54CC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F85E-086C-4B02-87B3-95ED547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0E41-7A75-45D4-937F-524B27B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E8B7-7272-4333-85C4-3C24991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709B-9412-413A-81CA-1629B879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C452-5668-4923-B603-CD7879F5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E85-B48B-4388-BE0D-E7C5AF3A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664-6123-48AC-8B55-D982660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506-C92B-4113-8EBE-86A065F6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490-0C81-4564-94C3-3981056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300-2340-4DE9-A2FB-AA822CF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EF00-0A2E-4DE3-8FE6-7CFE238C23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AE9-508F-4EE5-9900-3478C699169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9BD-535F-4F46-95AB-23EF33F4FB2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9DF7-6E4D-45F7-8E09-1630B530A74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328680" y="1023840"/>
            <a:ext cx="9472680" cy="505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0" y="401760"/>
            <a:ext cx="9113760" cy="4524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104760" y="455436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397560" y="3746520"/>
            <a:ext cx="2716200" cy="2036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986200" y="45543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877000" y="480060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38760" cy="1815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24000" y="139680"/>
            <a:ext cx="8350200" cy="78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Гаджиева Аида Ирзаевна</cp:lastModifiedBy>
  <dcterms:modified xsi:type="dcterms:W3CDTF">2022-11-23T16:23:23Z</dcterms:modified>
  <cp:revision>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